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77C-7FBF-4730-A29A-78289517F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591E-4A77-4CC8-AFCC-BF85967643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342-D238-48E8-9B28-761579A558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BEB-2BF6-425E-BDB2-1C88F5452F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BDA8-D437-4B8D-949B-295CA7C695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F48-9720-4CAC-AF59-D361FAF1C2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B9E-F6A6-42AD-B478-47C38A0B2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CBF2-363E-46EF-B892-591F37B84F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E043-8F56-4958-95B5-8C1159CDA3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A083-8470-4E8C-90CA-2F6B4FF3E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71FA-8832-4485-BEE6-96F524899A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707-1A8E-4F18-BB4E-54A6A6020D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A06C-98B2-4C74-A69F-26CC66DC23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37E-55B3-4436-A171-9B854719B9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048B-23C3-40A3-950C-EE840918ED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B57-0269-4233-81AC-12ACF7EA26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A65-34DF-4355-9380-DA22AE225C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862-5604-4461-9CF6-EB4B2253E1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E735-9747-4A79-8E00-100E15AD4B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7193-768F-4D06-AB08-82CAE827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8F38-2055-40CC-8665-F7FB7C3B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44E7-A26E-4970-A093-852B60B1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FA85-E120-47F6-A67D-E9E05309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ADDB-6A40-4BD4-9282-15C29DE1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D40-007C-4F55-9CC4-AC155125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E75-E8D1-48F4-B049-0AE3F45D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B634-5018-4489-B604-EFE29E6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F9F9-C8D4-48F5-9771-47E79C7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DDB1-988E-493C-BE1F-C018EA3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D3F-2B40-4F21-951F-D6400D1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5BC4-5A82-4F74-9519-89C1BEAD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5E4-8161-4D0E-AF23-614DB33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88A5-6228-46C5-BE6D-FDAC3143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D8BA-9DBC-4AF5-9F60-6F38FE4A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C9B6-ECBF-4BD7-BC8A-AAD1DAB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23FE-788E-4444-90B0-0D4C6737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6A65-7C30-47E8-929E-DCA5AD09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A7D9-AF4E-4FEF-9154-7718C290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EFA4-B8AF-447E-878C-0B2E4BAF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B072-03FB-4F14-BD77-6B64683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95F9-60A6-40E1-92F4-76D8DD1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D191-C05F-4EA8-B113-1C0FB6A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8296-8F52-49CC-AE30-9F7EC5D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0A1-A30F-4F6A-85DF-BFD0060FE8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AF1B-309C-4789-9EA1-88ABD617F4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ederalspace.ru/" TargetMode="External"/><Relationship Id="rId2" Type="http://schemas.openxmlformats.org/officeDocument/2006/relationships/hyperlink" Target="http://www.esa.int/esaCP/index.html" TargetMode="External"/><Relationship Id="rId3" Type="http://schemas.openxmlformats.org/officeDocument/2006/relationships/hyperlink" Target="http://www.nasa.gov/home/index.html" TargetMode="External"/><Relationship Id="rId4" Type="http://schemas.openxmlformats.org/officeDocument/2006/relationships/hyperlink" Target="http://www.astronaut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Arial"/>
              </a:rPr>
              <a:t>ГБОУ СО «Школа- интернат АОП с.Широкий Буерак»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презентации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ировая история освоения космос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и 11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вришов Е., Данилин 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7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6726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8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3113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Ракеты-носители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4 Вывод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5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0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375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384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federalspace.ru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esa.int/esaCP/index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http://www.nasa.gov/home/index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http://www.astronaut.ru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5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74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91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0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1" dur="5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user</cp:lastModifiedBy>
  <dcterms:modified xsi:type="dcterms:W3CDTF">2019-11-27T16:11:08Z</dcterms:modified>
  <cp:revision>45</cp:revision>
  <dc:subject/>
  <dc:title>Мировая  история освоения  космоса</dc:title>
</cp:coreProperties>
</file>